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221F-A6FA-4363-9603-1FAAA609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E15E-2A1C-4EC9-975B-BEA5D535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E3F2-EA4E-4250-9AAC-932E1069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0BAC-C8BB-4315-9BE3-B7444587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0843-FA4E-425E-AA56-801CEB20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2110-FEB0-472D-821C-7A98F6D7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25B3-E478-4B3B-AECE-6056B524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B93A-9119-420E-AAA5-A145E1D9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E2F9-CA47-455B-A28C-76958B61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1BC7-C03B-4D2B-A919-26119B1D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DA3D-89AE-488B-8186-74E23CB3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2E9F-C19F-4D14-82B6-27FEA355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3AD4-B03B-448D-A996-CE019773D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Baptism: question to con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riends in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ll you promise to maintain a lif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of worship and teaching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itness and serv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so that N</a:t>
            </a:r>
            <a:r>
              <a:rPr b="0" i="1" lang="en-A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may gr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o maturity in Chri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God’s help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e will live out our bapt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s a loving community in Chris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urturing one another in fait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upholding one another in pray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encouraging one an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servi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until Christ c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3:25:44Z</dcterms:created>
  <dc:creator>Anon Anon</dc:creator>
  <dc:description/>
  <dc:language>en-US</dc:language>
  <cp:lastModifiedBy>Anon Anon</cp:lastModifiedBy>
  <dcterms:modified xsi:type="dcterms:W3CDTF">2005-08-09T05:36:22Z</dcterms:modified>
  <cp:revision>10</cp:revision>
  <dc:subject/>
  <dc:title>PowerPoint Presentation</dc:title>
</cp:coreProperties>
</file>